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29D7-C6A1-41E7-8E48-D66D235A3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5FE0-2989-458A-8750-5BE780712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39AB-63B8-4C9C-A0D6-886D66DA9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96B8-69D8-495B-B079-7380D75713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8875-3F5A-4F00-865D-B60599666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15A5-DAF6-40C9-B9A0-657AA9B68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F32E-DFCD-48A7-A76E-F9314E099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5AA9-D4A1-49FD-9473-FE9D73342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01DD-5EAB-4482-8169-88CB81838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8DBB-E8E6-4F1D-A232-94AF748A3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99C7-48ED-4426-9288-369072426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7EF5-464E-4195-9044-074E2E278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.3-</a:t>
            </a:r>
            <a:fld id="{460EF236-9A75-4DB8-B33C-A948262AB0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792792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 perfect subjunct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pretérito perfecto de subjunt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like the present perfect indicative, is used to talk about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happe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present perfect subjunctive is formed using the present subjunctive of the auxiliary ver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st partici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81120"/>
            <a:ext cx="1676520" cy="5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4DC1-5141-4611-B99E-D6E52281F8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565280"/>
            <a:ext cx="8229600" cy="1322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016080"/>
            <a:ext cx="8229600" cy="33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065F-44D0-4682-B674-3954CC5C9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conditions which trigger the use of the present subjunctive apply to the pres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subjun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8229600" cy="164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82F8-5B19-4199-B346-7BCA1E7F5D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 the present perfect subjunctive is used to express a recent 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reo que l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h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think you said it right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ero que é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lega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hope he arriv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BDEE-E835-4FC7-A14E-DECC60C89C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on expressed by the present perfect subjunctive is seen as occurring before the action expressed in the main cl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70080"/>
            <a:ext cx="8229600" cy="13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40D2-6D5D-4CCC-A2D7-2CD35D904B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6360" y="2157480"/>
          <a:ext cx="8458200" cy="344808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102420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el pretérito perfecto de subjuntivo de los verbos entre parénte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24404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gusta que ustedes _______________ (decir) la verda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reo que tú _______________ (comer) tant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imposible que usted _______________ (poder) hacer tal (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 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cos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alegro de que tú y yo _______________ (merendar) junta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sible que yo _______________ (adelgazar) un poco esta sem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75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ro que _______________ (haber) suficiente comida en la celebració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03360" y="32716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ff"/>
                </a:solidFill>
                <a:latin typeface="Comic Sans MS"/>
              </a:rPr>
              <a:t>hayan di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43CF-3F92-4940-90C4-A7CDC96B3E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7:55:53Z</dcterms:modified>
  <cp:revision>76</cp:revision>
  <dc:subject/>
  <dc:title>PowerPoint Presentation</dc:title>
</cp:coreProperties>
</file>